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96F-5B7E-4344-8E57-2F39D25D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A59-39D0-4C51-9B29-D7CE1DE1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AE6-A802-49F8-AFBB-79EC993B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9A8-AD05-4F9F-AA4A-AE483484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909-90CF-48D5-988E-1F10E138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BA8-B549-42E9-BBB7-D9E4F4FB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158-866C-4E01-A15E-704C4FD8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FE8-720E-4A92-B0DE-A025120F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996-08E6-4212-95EF-6B052F2F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A6A-1618-435E-87B0-EA9FD87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93A-469A-4A80-B62C-B8976937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6E3-F049-4898-B8D8-F54990CA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2154-E463-46C2-8ACA-D40D7F786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this if U R Gen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ShockwaveFlash1"/>
          <p:cNvGraphicFramePr/>
          <p:nvPr/>
        </p:nvGraphicFramePr>
        <p:xfrm>
          <a:off x="380880" y="1447920"/>
          <a:ext cx="8458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5820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 </cp:lastModifiedBy>
  <dcterms:modified xsi:type="dcterms:W3CDTF">2005-01-19T20:46:13Z</dcterms:modified>
  <cp:revision>7</cp:revision>
  <dc:subject/>
  <dc:title>No Slide Title</dc:title>
</cp:coreProperties>
</file>